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3C5-D17C-4399-ADE1-CD794810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A90-0E99-49EE-AD70-B4A7D496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CBA-056D-40C6-A569-921CD856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217-BE18-4A2E-8EC1-B0C8D3F9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AAF-0675-4D73-8C05-6A86357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921-4349-4568-886F-29BB288B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41A-930C-4317-B0C3-1CBD9C4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DF7-6ABB-403E-AA98-10684E8E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BB1-2AFA-47A2-AA72-4D98369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E5E-5A6B-47C0-85D7-8E5C2EEE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C6C-8D11-4638-98E1-C8B23A7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EA1-743A-432C-8D67-58CFE0F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608-9667-4F96-B567-4B63BE3E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9 Svetom sa rozlie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á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orne sled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znamení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príde už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ejme a čakajme priprav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, ako kázal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om sa rozlie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á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príde už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enie má mu vz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a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oci vráti sa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rodné úkaz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plný zmi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lamne zvestujú ná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i sa rých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nádher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láve príd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úria sa náro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eje sa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ríde náš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ždy sa rozply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smrti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láve zjaví s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9:50:25Z</dcterms:modified>
  <cp:revision>7</cp:revision>
  <dc:subject/>
  <dc:title>Je veľký náš Pán, on slávy je Kráľ Nech do všetkých strán  spev vrúcnych znie chvál.</dc:title>
</cp:coreProperties>
</file>